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824-AB46-41AD-878C-25209291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89A-B1FC-4B85-A504-0D9A7C05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C80-17A7-4F4D-B86A-A4406857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BC1-86BB-4151-A561-66C7BED7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7A77-9DE1-4FFC-A57F-1BBD0285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E064-58D3-4FDF-9848-BB06AB4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C16F-0701-4A76-8BE5-12ECCE3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B02-6184-41B6-A7F6-7204DAEB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2645-924F-4AA0-84FB-6F0E65D8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FBB9-800F-46BC-A02A-11DAAF13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9B95-9761-41F6-AA1D-0705759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FE9-71C9-4644-9C39-BEFE35DE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D753-540E-431F-8E29-9B07D5D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0DA9-2510-4255-B62E-DC1883A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53D0-7EBC-4104-83C3-FEAE3C8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B890-7182-4E5C-8271-3712E941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99D1-A2A6-4DFF-96D9-60E77A7E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64B-E0BF-4AA0-B484-0701F4FF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D30-9DF1-48D2-87FF-60EE7E8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F74-D448-4F76-8D70-9D8717BA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614-832D-4AF7-A3C8-8253B5D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52B-1509-4F1A-9857-7D90D78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553-B197-4C9E-BEA6-C189803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3F9-0D78-4809-BC7B-55E58FC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A1DD-9CF2-4055-A12A-4A57483D2E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847B-EDF6-412A-87EF-D88CE80E27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Блюхера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65-49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12" descr="Школа 142 м.Харкова"/>
          <p:cNvPicPr/>
          <p:nvPr/>
        </p:nvPicPr>
        <p:blipFill>
          <a:blip r:embed="rId2"/>
          <a:stretch/>
        </p:blipFill>
        <p:spPr>
          <a:xfrm>
            <a:off x="4140360" y="3357720"/>
            <a:ext cx="4105080" cy="3079440"/>
          </a:xfrm>
          <a:prstGeom prst="rect">
            <a:avLst/>
          </a:prstGeom>
          <a:ln w="127080">
            <a:solidFill>
              <a:srgbClr val="2f2c1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2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3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4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5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6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6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en-US" sz="3600" spc="-1" strike="noStrike">
                <a:solidFill>
                  <a:srgbClr val="666729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и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3 роки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4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Рогова </cp:lastModifiedBy>
  <dcterms:modified xsi:type="dcterms:W3CDTF">2014-11-21T11:27:46Z</dcterms:modified>
  <cp:revision>62</cp:revision>
  <dc:subject/>
  <dc:title>Слайд 1</dc:title>
</cp:coreProperties>
</file>