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EEF-037A-481A-8937-D079791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D9A-9A80-4A2D-8250-5A3E3EE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7B3-AF47-4DBF-95C2-A19AA4EA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6B0-6171-4352-849C-903C31A2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8C3-2AD2-4542-B20F-9B366CA3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33E-397D-46C6-8167-EBE3F86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9E97-2AED-43D5-A561-60F57836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7D5-F48B-4782-B5DD-5CDD4B7E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4F3-9125-4335-9538-4D4B1657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D490-E5FD-41CC-9E53-49496CC5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8E01-4B39-4C1E-A4C6-8F82551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C7A-CA35-4FE5-8CE4-0630D548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D6AD-2303-441D-9AE5-F373609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6602-F671-40BA-9925-6539DD4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F218-5B61-4AD6-B8EF-AA37A6A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7F3F-FF85-410C-846B-75DBC38E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FB18-9F99-4036-8380-41EA2BC8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383-22DE-4F46-9B7A-12521AF2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C69-95C0-4341-B161-F8638F2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345-489E-4F0F-BA7F-617C3898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7C5-7A23-4EBA-92C5-744A17A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5A9-C92B-490B-BF63-AC2D222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03C-B12C-4612-892F-9A31F45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2B5-F9C8-45B6-ACF5-7478B8B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F33-7A21-4335-A9C0-80DA659E99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0E1-48FA-4F9C-BC00-19A9991922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Блюхера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3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Рогова </cp:lastModifiedBy>
  <dcterms:modified xsi:type="dcterms:W3CDTF">2014-11-21T11:27:46Z</dcterms:modified>
  <cp:revision>62</cp:revision>
  <dc:subject/>
  <dc:title>Слайд 1</dc:title>
</cp:coreProperties>
</file>