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BDB-0C6C-4FDE-9DA8-0CE4E9DA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BF2-5F6C-4FF7-BDC6-C8C4643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082-82E1-41CE-A42F-540DF19E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934-D6BE-4A73-86F2-14273A54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6BF2-48EB-4A16-AF07-44E3AE11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49AD-8F36-452C-85FF-AFC01D21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751-1FCE-4E82-8288-8B76436F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6C0D-E175-4910-BF1B-91D134A9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5F99-BCD9-4F5D-B28D-2FC9B47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BB87-E98B-469F-84F1-A153B60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9A94-46C0-4109-98EC-A981E0D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819-18EB-4BF7-A2F9-4895437C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41E0-33C5-4738-A143-F3949DC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300F-4D58-4DE7-84BA-522D9CE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7481-C468-48D0-83A6-C23869D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85D-5E2C-4A99-BCE5-6C49EA87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2CEE-03F6-457A-9E26-3178EE01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097-3BCE-427A-9153-5387A9A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85F-2238-41C7-B0BC-541523A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E19-CAFB-44DB-B1C9-3F4629FF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A28-B342-4F9C-9E17-BA56C826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A14-A291-4AA4-96B3-337652D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D2B-E0F4-4465-8607-3AF1280C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17B-7360-421F-A253-723D856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F14-A3DD-4372-AF20-204783A228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9C8E-6AD5-46F7-B8CF-EB39EAB1F1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Валент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всь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7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4 роки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4 роки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i</cp:lastModifiedBy>
  <dcterms:modified xsi:type="dcterms:W3CDTF">2016-10-11T06:37:46Z</dcterms:modified>
  <cp:revision>63</cp:revision>
  <dc:subject/>
  <dc:title>Слайд 1</dc:title>
</cp:coreProperties>
</file>