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AF7-912E-478E-BCB1-0D60BDB5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25C-E42A-4D71-A441-9770B8F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CD9-6933-4957-9C00-79B45679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A56-119D-49BF-93FC-2CE5FDFC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A74C-DFCF-4767-8C4D-72E4B72E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C111-7387-49F3-8DD3-77E9E6B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A9CD-2152-42FB-8693-90AD79A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BEEE-5CAE-4370-A16F-15232AB8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74F6-DB6C-466E-9B13-C6E5A196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11CE-1997-42D4-A4F6-6098A71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767C-19D1-4DDF-AE13-F524434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C8E-8560-4B59-A109-0178BDC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27E-A8DF-4DC0-8D12-7643E46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7F84-4DE7-45B6-9B9A-8CE8100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AC55-6393-45AD-86FA-D63093D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12B-D881-4042-AB01-8043A78B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D11-9BEA-4B03-A16A-C31E4AD7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4E2-A09C-43E6-9014-4E9FC71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672-DB82-4353-881B-E04DEBD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368-9221-46B8-8ECA-EF08D18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DC9-6A93-4880-A129-231DA98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1D3-D958-47DF-87C4-7FE0402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28E-9D60-4A5B-A87A-6BD6084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2BD-0A0B-4346-BA96-F2FD660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0C6A-76A7-4C58-94BD-75C8E5F98D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09720"/>
              <a:chOff x="7848720" y="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1960"/>
                <a:chOff x="8381880" y="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0"/>
                  <a:ext cx="279360" cy="275760"/>
                  <a:chOff x="870732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0"/>
                    <a:ext cx="279360" cy="275760"/>
                    <a:chOff x="870732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88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687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61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62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A0C-4FEA-4EBF-98BD-598968807F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5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5 років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7-09-10T08:15:17Z</dcterms:modified>
  <cp:revision>64</cp:revision>
  <dc:subject/>
  <dc:title>Слайд 1</dc:title>
</cp:coreProperties>
</file>