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2E9-BD26-4E7D-8825-6A0ED5CB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45F-8BC4-4731-8E59-97C7D97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DB0-5356-4F2E-875D-95FC8A5B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3AF-BF79-4630-8FF2-2ED478E1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9ACC-FB7A-4238-8C5E-E7CD58D5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421F-167F-4C2A-AA6B-3F927CF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2C15-5AAC-488D-BB3D-071F4856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81D6-8AC5-4BF7-824E-D31C5F9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9251-1A8C-4047-AD44-792A992F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E30B-2ED0-4BB2-9651-1E118F58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3B32-129E-41F0-9F59-25A28B4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AE2-636A-459C-A19B-530EE89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F4FA-06FF-48A0-8120-B0CFE4E5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2313-90B3-47E6-AD0E-82203AC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821E-B825-4D18-BC71-0807F1E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4FB7-601C-46B6-90D2-F2E3E728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ABC-9827-495F-AC6C-B6F48182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DC5-0E99-4F8A-959E-959467E1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830-E335-4F56-9F2A-4BEB35BC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2A7-4DF9-4EAF-B1CA-82F94D4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6D5-CF2E-4E39-8552-A257161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F4D-01D0-4BFB-A6FE-4AC51081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B8C-45F6-4317-A0CA-4CB87DB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350-0942-47D3-9E83-443688E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54B-C986-44AD-AED1-ED5223AB65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09720"/>
              <a:chOff x="7848720" y="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71960"/>
                <a:chOff x="8381880" y="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0"/>
                  <a:ext cx="279360" cy="275760"/>
                  <a:chOff x="8707320" y="0"/>
                  <a:chExt cx="279360" cy="27576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0"/>
                    <a:ext cx="279360" cy="275760"/>
                    <a:chOff x="8707320" y="0"/>
                    <a:chExt cx="279360" cy="27576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88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687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61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62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B018-B068-43F4-A9CF-BEE46364B0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Валент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всь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7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5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ів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5 років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i</cp:lastModifiedBy>
  <dcterms:modified xsi:type="dcterms:W3CDTF">2017-09-10T08:15:17Z</dcterms:modified>
  <cp:revision>64</cp:revision>
  <dc:subject/>
  <dc:title>Слайд 1</dc:title>
</cp:coreProperties>
</file>