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7.wmf" ContentType="image/x-wmf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wmf" ContentType="image/x-wmf"/>
  <Override PartName="/ppt/media/image38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8.gif" ContentType="image/gif"/>
  <Override PartName="/ppt/media/image32.jpeg" ContentType="image/jpeg"/>
  <Override PartName="/ppt/media/image48.jpeg" ContentType="image/jpeg"/>
  <Override PartName="/ppt/media/image37.png" ContentType="image/png"/>
  <Override PartName="/ppt/media/image34.jpeg" ContentType="image/jpeg"/>
  <Override PartName="/ppt/media/image44.gif" ContentType="image/gif"/>
  <Override PartName="/ppt/media/image20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7.gif" ContentType="image/gif"/>
  <Override PartName="/ppt/media/image29.jpeg" ContentType="image/jpeg"/>
  <Override PartName="/ppt/media/image36.jpeg" ContentType="image/jpeg"/>
  <Override PartName="/ppt/media/image33.jpeg" ContentType="image/jpeg"/>
  <Override PartName="/ppt/media/image39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30.jpeg" ContentType="image/jpeg"/>
  <Override PartName="/ppt/media/image11.wmf" ContentType="image/x-wmf"/>
  <Override PartName="/ppt/media/image3.png" ContentType="image/png"/>
  <Override PartName="/ppt/media/image9.wmf" ContentType="image/x-wmf"/>
  <Override PartName="/ppt/media/image8.gif" ContentType="image/gif"/>
  <Override PartName="/ppt/media/image26.jpeg" ContentType="image/jpeg"/>
  <Override PartName="/ppt/media/image42.png" ContentType="image/png"/>
  <Override PartName="/ppt/media/image43.gif" ContentType="image/gif"/>
  <Override PartName="/ppt/media/image6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ED9-5C01-4D09-8F69-04FF75A2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BE7-12C9-4C7A-885D-D4F358DD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280-1753-43CA-B5A2-0CCF9060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013-3794-4052-8DAE-CE3F35F2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27E7-BD6C-4C67-8177-59D51D5B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FFA8-3B13-4097-9E2B-C30F6694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3C7F-8847-4AD6-86DA-1081AB4E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43A8-C285-4221-9659-A8D08D47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D029-99BB-44D4-9353-B5EF8FEC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3C16-3F03-47A4-950C-B2FDE94A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239B-01DF-4804-8BB7-0DD85975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C4A-3A61-4CFE-8A9B-5E9D44BF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3BE3-CDCB-469B-8F63-10EA9E6D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6AE0-9663-4E65-B4DD-1B89B493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797A-3712-4B52-8BAC-0C516354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2BD2-9D93-47D4-9E50-DD5DAF38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18BD-5468-4C35-A4A4-ACD7A3B8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3D9-B6B7-4C0D-A104-4C1072BF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DE3-9D2B-48AB-AB24-580BD7B7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D62-0E3F-4AB7-9E43-679ABE5D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8E4-B724-4B56-82F9-F5A2464B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298-A116-4B3E-906E-7106A17E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683-3BF1-4FE6-8C37-9F184410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0EE-E29F-491E-9C8C-0355B11C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12BB-0DC3-466E-868C-D0BBB235A4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0"/>
              <a:ext cx="1295280" cy="6309720"/>
              <a:chOff x="7848720" y="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0"/>
                <a:ext cx="762120" cy="2271960"/>
                <a:chOff x="8381880" y="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0"/>
                  <a:ext cx="279360" cy="275760"/>
                  <a:chOff x="8707320" y="0"/>
                  <a:chExt cx="279360" cy="27576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0"/>
                    <a:ext cx="279360" cy="275760"/>
                    <a:chOff x="8707320" y="0"/>
                    <a:chExt cx="279360" cy="27576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88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076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06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67320"/>
                    <a:ext cx="42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47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44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410C-9AFB-4386-ADEB-F600E6976C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rtr.spb.ru/vesti/vesti_2006/upload/23-10-2006/Biblio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hyperlink" Target="mailto:sch142@kharkivosvita.net.ua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hyperlink" Target="mailto:sch142@kharkivosvita.net.ua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5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hyperlink" Target="mailto:sch142@kharkivosvita.net.ua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0" y="3284280"/>
            <a:ext cx="38512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729"/>
                </a:solidFill>
                <a:latin typeface="Arial"/>
              </a:rPr>
              <a:t>Наша адре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Харків-6117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ул. Валентин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всь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20-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ефо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057) 725-16-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sch142@kharkivosvita.net.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755640" y="260280"/>
            <a:ext cx="6453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школ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І-ІІІ ступенів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міської рад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області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3851280" y="3357720"/>
            <a:ext cx="3649680" cy="24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72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50920" y="333360"/>
            <a:ext cx="88930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 вирії шкільного життя ..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IMG_8010"/>
          <p:cNvPicPr/>
          <p:nvPr/>
        </p:nvPicPr>
        <p:blipFill>
          <a:blip r:embed="rId1"/>
          <a:stretch/>
        </p:blipFill>
        <p:spPr>
          <a:xfrm>
            <a:off x="4859280" y="1484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IMG_8127"/>
          <p:cNvPicPr/>
          <p:nvPr/>
        </p:nvPicPr>
        <p:blipFill>
          <a:blip r:embed="rId2"/>
          <a:stretch/>
        </p:blipFill>
        <p:spPr>
          <a:xfrm>
            <a:off x="468360" y="1484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P5111504"/>
          <p:cNvPicPr/>
          <p:nvPr/>
        </p:nvPicPr>
        <p:blipFill>
          <a:blip r:embed="rId3"/>
          <a:stretch/>
        </p:blipFill>
        <p:spPr>
          <a:xfrm>
            <a:off x="395280" y="429264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IMGP4612"/>
          <p:cNvPicPr/>
          <p:nvPr/>
        </p:nvPicPr>
        <p:blipFill>
          <a:blip r:embed="rId4"/>
          <a:stretch/>
        </p:blipFill>
        <p:spPr>
          <a:xfrm>
            <a:off x="5219640" y="3500280"/>
            <a:ext cx="1927440" cy="2878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IMGP4722"/>
          <p:cNvPicPr/>
          <p:nvPr/>
        </p:nvPicPr>
        <p:blipFill>
          <a:blip r:embed="rId5"/>
          <a:stretch/>
        </p:blipFill>
        <p:spPr>
          <a:xfrm>
            <a:off x="2627280" y="2924280"/>
            <a:ext cx="295272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976480" y="1771560"/>
            <a:ext cx="616752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324000" y="26028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рхів виховних заходів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онкурс «Збережимо підручники!"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63" name="Picture 8" descr="Untitled-2 Копировать"/>
          <p:cNvPicPr/>
          <p:nvPr/>
        </p:nvPicPr>
        <p:blipFill>
          <a:blip r:embed="rId1"/>
          <a:stretch/>
        </p:blipFill>
        <p:spPr>
          <a:xfrm>
            <a:off x="7164360" y="4437000"/>
            <a:ext cx="120024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IMG_3380"/>
          <p:cNvPicPr/>
          <p:nvPr/>
        </p:nvPicPr>
        <p:blipFill>
          <a:blip r:embed="rId2"/>
          <a:stretch/>
        </p:blipFill>
        <p:spPr>
          <a:xfrm>
            <a:off x="5796000" y="227664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can06022009пи_143720"/>
          <p:cNvPicPr/>
          <p:nvPr/>
        </p:nvPicPr>
        <p:blipFill>
          <a:blip r:embed="rId3"/>
          <a:stretch/>
        </p:blipFill>
        <p:spPr>
          <a:xfrm>
            <a:off x="6516720" y="3213000"/>
            <a:ext cx="1428840" cy="1440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0" y="1197000"/>
            <a:ext cx="59403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а конкурсу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ліпшення роботи щодо збереження підручників та кни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часники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иректор, завучі, бібліотекар, вчителі - предметники, класні керівники, учні 1-11х класі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ід конкурс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ля організації та проведення конкурсу був створений шкільний оргкомітет, ухвалений наказом директора.  В рамках проведення  конкурсу  було проведено велику роботу. Так, пости бережливих регулярно перевіряли підручники і виставляли оцінки в екрани збереження підручників, які були створені в усіх клас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ктивно працює в класах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книжкова лікарня”.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 бібліотеці існує куточок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Відремонтуй книгу”,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стенд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Живи, книго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1" descr="слайд 5"/>
          <p:cNvPicPr/>
          <p:nvPr/>
        </p:nvPicPr>
        <p:blipFill>
          <a:blip r:embed="rId4"/>
          <a:stretch/>
        </p:blipFill>
        <p:spPr>
          <a:xfrm>
            <a:off x="6084720" y="5084640"/>
            <a:ext cx="1513080" cy="128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PICT0526"/>
          <p:cNvPicPr/>
          <p:nvPr/>
        </p:nvPicPr>
        <p:blipFill>
          <a:blip r:embed="rId5"/>
          <a:stretch/>
        </p:blipFill>
        <p:spPr>
          <a:xfrm>
            <a:off x="6804000" y="1197000"/>
            <a:ext cx="1619280" cy="12142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6760" y="1571760"/>
            <a:ext cx="775836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бібліотеці ведеться впровадження бібліотечних прогр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лік навчальної літератур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Б “Періодик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6"/>
          <a:stretch/>
        </p:blipFill>
        <p:spPr>
          <a:xfrm>
            <a:off x="2428920" y="3786120"/>
            <a:ext cx="3786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роботі застосовується автоматизована технологія обліку навчальної літератури. Для цього використовується спеціальна програма, розроблена управлінням освіти Департаменту з гуманітарних питань Харківської міської 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ручники 1-11 класів занесені у програму (344 кар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2923920"/>
            <a:ext cx="4546440" cy="33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ворення бібліотечно-інформаційного цент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ворення єдиної комп'ютерної бібліотечної мережі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провадження бібліотечних програм “Облік підручників”, “Періодика”, створення електронної СК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AG00174_"/>
          <p:cNvPicPr/>
          <p:nvPr/>
        </p:nvPicPr>
        <p:blipFill>
          <a:blip r:embed="rId4"/>
          <a:stretch/>
        </p:blipFill>
        <p:spPr>
          <a:xfrm>
            <a:off x="250920" y="1890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AG00154_"/>
          <p:cNvPicPr/>
          <p:nvPr/>
        </p:nvPicPr>
        <p:blipFill>
          <a:blip r:embed="rId5"/>
          <a:stretch/>
        </p:blipFill>
        <p:spPr>
          <a:xfrm>
            <a:off x="826920" y="476280"/>
            <a:ext cx="2320920" cy="2043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i?id=49116002&amp;tov=4"/>
          <p:cNvPicPr/>
          <p:nvPr/>
        </p:nvPicPr>
        <p:blipFill>
          <a:blip r:embed="rId6"/>
          <a:stretch/>
        </p:blipFill>
        <p:spPr>
          <a:xfrm>
            <a:off x="5508720" y="4365720"/>
            <a:ext cx="2376360" cy="1555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i?id=158154054&amp;tov=8"/>
          <p:cNvPicPr/>
          <p:nvPr/>
        </p:nvPicPr>
        <p:blipFill>
          <a:blip r:embed="rId7"/>
          <a:stretch/>
        </p:blipFill>
        <p:spPr>
          <a:xfrm>
            <a:off x="4932360" y="1916280"/>
            <a:ext cx="2305080" cy="1825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i?id=38417043&amp;tov=4"/>
          <p:cNvPicPr/>
          <p:nvPr/>
        </p:nvPicPr>
        <p:blipFill>
          <a:blip r:embed="rId8"/>
          <a:stretch/>
        </p:blipFill>
        <p:spPr>
          <a:xfrm>
            <a:off x="4211640" y="4437000"/>
            <a:ext cx="1047600" cy="12286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1"/>
          <p:cNvSpPr/>
          <p:nvPr/>
        </p:nvSpPr>
        <p:spPr>
          <a:xfrm>
            <a:off x="7000920" y="64911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WordArt 5"/>
          <p:cNvSpPr txBox="1"/>
          <p:nvPr/>
        </p:nvSpPr>
        <p:spPr>
          <a:xfrm>
            <a:off x="3276720" y="692280"/>
            <a:ext cx="453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Перспектив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розвитку: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3"/>
          <p:cNvSpPr txBox="1"/>
          <p:nvPr/>
        </p:nvSpPr>
        <p:spPr>
          <a:xfrm>
            <a:off x="571680" y="357120"/>
            <a:ext cx="6586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Дякуємо за увагу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84" name="Picture 14" descr="i?id=13811156&amp;tov=7"/>
          <p:cNvPicPr/>
          <p:nvPr/>
        </p:nvPicPr>
        <p:blipFill>
          <a:blip r:embed="rId1"/>
          <a:stretch/>
        </p:blipFill>
        <p:spPr>
          <a:xfrm>
            <a:off x="4500720" y="2060640"/>
            <a:ext cx="2000160" cy="23810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142920" y="1857240"/>
            <a:ext cx="392904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овий дім – бібліотека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е затишок думок свят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ібліо – звали книгу греки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ю назву взяли ми від н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Тут зібрані думки учени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І кожна книга – відкр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Знання для всіх людей священне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ез нього не буде ж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На стелаж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просторих зал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и й книж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рядах тісних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нам писав ї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їх зберіг 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WordArt 5"/>
          <p:cNvSpPr txBox="1"/>
          <p:nvPr/>
        </p:nvSpPr>
        <p:spPr>
          <a:xfrm rot="20368200">
            <a:off x="4000320" y="4928760"/>
            <a:ext cx="504324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прошуємо до бібілотеки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BD13708_"/>
          <p:cNvPicPr/>
          <p:nvPr/>
        </p:nvPicPr>
        <p:blipFill>
          <a:blip r:embed="rId1"/>
          <a:stretch/>
        </p:blipFill>
        <p:spPr>
          <a:xfrm>
            <a:off x="2268360" y="4005360"/>
            <a:ext cx="1708200" cy="1944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BD13656_"/>
          <p:cNvPicPr/>
          <p:nvPr/>
        </p:nvPicPr>
        <p:blipFill>
          <a:blip r:embed="rId2"/>
          <a:stretch/>
        </p:blipFill>
        <p:spPr>
          <a:xfrm>
            <a:off x="395280" y="3789360"/>
            <a:ext cx="1824120" cy="2017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AN00790_"/>
          <p:cNvPicPr/>
          <p:nvPr/>
        </p:nvPicPr>
        <p:blipFill>
          <a:blip r:embed="rId3"/>
          <a:stretch/>
        </p:blipFill>
        <p:spPr>
          <a:xfrm>
            <a:off x="6012000" y="2276640"/>
            <a:ext cx="1450800" cy="151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f090121_093158_big"/>
          <p:cNvPicPr/>
          <p:nvPr/>
        </p:nvPicPr>
        <p:blipFill>
          <a:blip r:embed="rId4"/>
          <a:stretch/>
        </p:blipFill>
        <p:spPr>
          <a:xfrm>
            <a:off x="4356000" y="3933720"/>
            <a:ext cx="3456000" cy="2594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j0301252"/>
          <p:cNvPicPr/>
          <p:nvPr/>
        </p:nvPicPr>
        <p:blipFill>
          <a:blip r:embed="rId5"/>
          <a:stretch/>
        </p:blipFill>
        <p:spPr>
          <a:xfrm>
            <a:off x="5867280" y="549360"/>
            <a:ext cx="1471680" cy="1258920"/>
          </a:xfrm>
          <a:prstGeom prst="rect">
            <a:avLst/>
          </a:prstGeom>
          <a:ln w="0">
            <a:noFill/>
          </a:ln>
        </p:spPr>
      </p:pic>
      <p:sp>
        <p:nvSpPr>
          <p:cNvPr id="200" name="WordArt 6"/>
          <p:cNvSpPr txBox="1"/>
          <p:nvPr/>
        </p:nvSpPr>
        <p:spPr>
          <a:xfrm>
            <a:off x="684360" y="54936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24000" y="6021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Бібліотеку засновано в 1976 роц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11280" y="2421000"/>
            <a:ext cx="54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учнів – 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8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класів - 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4535640" cy="453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рганіз</a:t>
            </a: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в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ує роботу бібліотеки  – </a:t>
            </a:r>
            <a:br>
              <a:rPr sz="1700"/>
            </a:br>
            <a:br>
              <a:rPr sz="1700"/>
            </a:b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завідувач бібліотеки </a:t>
            </a:r>
            <a:br>
              <a:rPr sz="1700"/>
            </a:br>
            <a:br>
              <a:rPr sz="1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Шаніна </a:t>
            </a:r>
            <a:br>
              <a:rPr sz="2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Наталія Олександрівна</a:t>
            </a:r>
            <a:br>
              <a:rPr sz="2700"/>
            </a:br>
            <a:br>
              <a:rPr sz="17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Освіта – вища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Стаж роботи бібліотекарем -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ru-RU" sz="1500" spc="-1" strike="noStrike">
                <a:solidFill>
                  <a:srgbClr val="3f3b19"/>
                </a:solidFill>
                <a:latin typeface="Arial"/>
              </a:rPr>
              <a:t>6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 років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В шкільній бібліотеці –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ru-RU" sz="1500" spc="-1" strike="noStrike">
                <a:solidFill>
                  <a:srgbClr val="3f3b19"/>
                </a:solidFill>
                <a:latin typeface="Arial"/>
              </a:rPr>
              <a:t>6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 років</a:t>
            </a:r>
            <a:br>
              <a:rPr sz="1500"/>
            </a:br>
            <a:endParaRPr b="0" lang="en-US" sz="15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179280" y="404640"/>
            <a:ext cx="39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5" name="Picture 30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3224160" cy="5040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-360" y="2204640"/>
            <a:ext cx="5545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світло 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зорі очі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оя сім</a:t>
            </a:r>
            <a:r>
              <a:rPr b="0" lang="en-US" sz="3000" spc="-1" strike="noStrike">
                <a:solidFill>
                  <a:srgbClr val="663300"/>
                </a:solidFill>
                <a:latin typeface="Arial"/>
              </a:rPr>
              <a:t>’</a:t>
            </a: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я, моя рі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ій розум, серце моє, оч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Без книги я не пр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же, як без вирію лел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Я і крізь вічність 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 отім святім – бібліоте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539640" y="404640"/>
            <a:ext cx="431820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Бібіліоте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ьої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и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9" name="Picture 15" descr="7984340"/>
          <p:cNvPicPr/>
          <p:nvPr/>
        </p:nvPicPr>
        <p:blipFill>
          <a:blip r:embed="rId1"/>
          <a:stretch/>
        </p:blipFill>
        <p:spPr>
          <a:xfrm>
            <a:off x="5796000" y="692280"/>
            <a:ext cx="1914480" cy="2881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P1010041"/>
          <p:cNvPicPr/>
          <p:nvPr/>
        </p:nvPicPr>
        <p:blipFill>
          <a:blip r:embed="rId2"/>
          <a:stretch/>
        </p:blipFill>
        <p:spPr>
          <a:xfrm>
            <a:off x="5867280" y="3716280"/>
            <a:ext cx="1770120" cy="2664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1187280" y="333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налітична довідк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95280" y="1628640"/>
            <a:ext cx="3635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ібліотечне обладнанн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елажі – 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оли – 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таложна шафа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нижкові шафи –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олиці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світлення відповідає санітарно – гігієнічним вимог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 читальному залі є комп'ютер та прин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фонді бібліотеки є   документи  та підручниковий фонд  на електронних  носіях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Scan06022009_143720"/>
          <p:cNvPicPr/>
          <p:nvPr/>
        </p:nvPicPr>
        <p:blipFill>
          <a:blip r:embed="rId1"/>
          <a:stretch/>
        </p:blipFill>
        <p:spPr>
          <a:xfrm>
            <a:off x="7508880" y="1484280"/>
            <a:ext cx="1635120" cy="2449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137 из 248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581360"/>
            <a:ext cx="2317680" cy="1781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324000" y="1413000"/>
            <a:ext cx="374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Бібліотека розташована на другому поверсі школи. Займає ізольоване приміщення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гальна площа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52 кв.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окремлених приміщен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читальний зал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2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бонемент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6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нигосховища -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4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ількість читальних місць у читальному    залі 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j0299125"/>
          <p:cNvPicPr/>
          <p:nvPr/>
        </p:nvPicPr>
        <p:blipFill>
          <a:blip r:embed="rId4"/>
          <a:stretch/>
        </p:blipFill>
        <p:spPr>
          <a:xfrm>
            <a:off x="6948360" y="0"/>
            <a:ext cx="749520" cy="1228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5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78800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Фонд бібліотеки укомплектовано літературою: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художньою –22233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овідковою –158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дагогічно-методичною –1012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уково-пізнавальною –1600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іодичні видання: 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журнали –13, газети –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image695"/>
          <p:cNvPicPr/>
          <p:nvPr/>
        </p:nvPicPr>
        <p:blipFill>
          <a:blip r:embed="rId1"/>
          <a:stretch/>
        </p:blipFill>
        <p:spPr>
          <a:xfrm>
            <a:off x="539640" y="333360"/>
            <a:ext cx="1800360" cy="14605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4500720" y="1916280"/>
            <a:ext cx="381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Облікова документація бібліоте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нвентарна книга –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умарна книга 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денник роботи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ормуляри читачі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ложення про бібліоте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садові інструкції                                                                 правила користування бібліотекою                                                                                                планово-звітна документаці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250920" y="5013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Фонд розставлено за таблицями ББ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Режим збереження фонду дотримуєть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До фонду відкритий доступ. Всі видання технічно оброблені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У бібліотеці ведуться  алфавітний та систематичний катало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2771640" y="549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Фонд бібліоте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7343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еалізації державної політики в галузі освіти, розвитку навчально-виховного проце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ховувати у школярів культуру, національну свідомість, шановне становлення до книги - як головного джерела зна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ізними формами і методами бібліотечної роботи самоосвіти учнів і педагогів, забезпеченню літературою їхніх культурних потре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носити на якісний новий рівень бібліотечну спр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468360" y="189000"/>
            <a:ext cx="820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сновні напрями роботи бібліотеки: 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29" name="Picture 6" descr="i?id=145114430&amp;tov=3"/>
          <p:cNvPicPr/>
          <p:nvPr/>
        </p:nvPicPr>
        <p:blipFill>
          <a:blip r:embed="rId5"/>
          <a:stretch/>
        </p:blipFill>
        <p:spPr>
          <a:xfrm>
            <a:off x="6588000" y="36450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i?id=61690886&amp;tov=4"/>
          <p:cNvPicPr/>
          <p:nvPr/>
        </p:nvPicPr>
        <p:blipFill>
          <a:blip r:embed="rId6"/>
          <a:stretch/>
        </p:blipFill>
        <p:spPr>
          <a:xfrm>
            <a:off x="3059280" y="5805360"/>
            <a:ext cx="961920" cy="8668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1"/>
          <p:cNvSpPr/>
          <p:nvPr/>
        </p:nvSpPr>
        <p:spPr>
          <a:xfrm>
            <a:off x="5796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7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81520" y="1052640"/>
            <a:ext cx="3930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тачі отримують в тимчасове користування друковані видання та інші види видань з фонду бібліот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ні та педагоги користуються читальним залом, де знаходяться енциклопедичні, довідкові, цінні та рідкісні ви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задоволення навчальних потреб усі читачі мають вільний доступ до  електронних ресурсів бібліотеки та безкоштовний доступ до навчальних ресурсів мереж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"/>
          <p:cNvSpPr txBox="1"/>
          <p:nvPr/>
        </p:nvSpPr>
        <p:spPr>
          <a:xfrm>
            <a:off x="1000080" y="115920"/>
            <a:ext cx="68454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бслуговування читачів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-4641840" y="-39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-4641840" y="2414520"/>
          <a:ext cx="208080" cy="34657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4657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Picture 12" descr="Отсканирокпвувано 02"/>
          <p:cNvPicPr/>
          <p:nvPr/>
        </p:nvPicPr>
        <p:blipFill>
          <a:blip r:embed="rId1"/>
          <a:stretch/>
        </p:blipFill>
        <p:spPr>
          <a:xfrm>
            <a:off x="324000" y="1197000"/>
            <a:ext cx="2809800" cy="1766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i?id=129618844&amp;tov=0"/>
          <p:cNvPicPr/>
          <p:nvPr/>
        </p:nvPicPr>
        <p:blipFill>
          <a:blip r:embed="rId2"/>
          <a:stretch/>
        </p:blipFill>
        <p:spPr>
          <a:xfrm>
            <a:off x="2268360" y="2637000"/>
            <a:ext cx="1155960" cy="172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7" descr="Scan06022009_143720"/>
          <p:cNvPicPr/>
          <p:nvPr/>
        </p:nvPicPr>
        <p:blipFill>
          <a:blip r:embed="rId3"/>
          <a:stretch/>
        </p:blipFill>
        <p:spPr>
          <a:xfrm>
            <a:off x="324000" y="2852640"/>
            <a:ext cx="1635120" cy="244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i?id=25882518&amp;tov=8"/>
          <p:cNvPicPr/>
          <p:nvPr/>
        </p:nvPicPr>
        <p:blipFill>
          <a:blip r:embed="rId4"/>
          <a:stretch/>
        </p:blipFill>
        <p:spPr>
          <a:xfrm>
            <a:off x="140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1" descr="i?id=96575816&amp;tov=6"/>
          <p:cNvPicPr/>
          <p:nvPr/>
        </p:nvPicPr>
        <p:blipFill>
          <a:blip r:embed="rId5"/>
          <a:stretch/>
        </p:blipFill>
        <p:spPr>
          <a:xfrm>
            <a:off x="1763640" y="4221000"/>
            <a:ext cx="1333440" cy="1000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6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642960" y="285840"/>
            <a:ext cx="52578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нижкові вистав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45" name="Picture 11" descr="i?id=104171177&amp;tov=0"/>
          <p:cNvPicPr/>
          <p:nvPr/>
        </p:nvPicPr>
        <p:blipFill>
          <a:blip r:embed="rId1"/>
          <a:stretch/>
        </p:blipFill>
        <p:spPr>
          <a:xfrm>
            <a:off x="1042920" y="4365720"/>
            <a:ext cx="1603440" cy="1197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i?id=115571568&amp;tov=8"/>
          <p:cNvPicPr/>
          <p:nvPr/>
        </p:nvPicPr>
        <p:blipFill>
          <a:blip r:embed="rId2"/>
          <a:stretch/>
        </p:blipFill>
        <p:spPr>
          <a:xfrm>
            <a:off x="5651640" y="4508640"/>
            <a:ext cx="1655640" cy="1234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3" descr="i?id=402576978-63-72&amp;n=21"/>
          <p:cNvPicPr/>
          <p:nvPr/>
        </p:nvPicPr>
        <p:blipFill>
          <a:blip r:embed="rId4"/>
          <a:stretch/>
        </p:blipFill>
        <p:spPr>
          <a:xfrm>
            <a:off x="3276720" y="1773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i?id=919391209-17-72&amp;n=21"/>
          <p:cNvPicPr/>
          <p:nvPr/>
        </p:nvPicPr>
        <p:blipFill>
          <a:blip r:embed="rId5"/>
          <a:stretch/>
        </p:blipFill>
        <p:spPr>
          <a:xfrm>
            <a:off x="3348000" y="3500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i?id=921889643-51-72&amp;n=21"/>
          <p:cNvPicPr/>
          <p:nvPr/>
        </p:nvPicPr>
        <p:blipFill>
          <a:blip r:embed="rId6"/>
          <a:stretch/>
        </p:blipFill>
        <p:spPr>
          <a:xfrm>
            <a:off x="543564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i?id=351569861-47-72&amp;n=21"/>
          <p:cNvPicPr/>
          <p:nvPr/>
        </p:nvPicPr>
        <p:blipFill>
          <a:blip r:embed="rId7"/>
          <a:stretch/>
        </p:blipFill>
        <p:spPr>
          <a:xfrm>
            <a:off x="104292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" descr="i?id=115404430-19-72&amp;n=21"/>
          <p:cNvPicPr/>
          <p:nvPr/>
        </p:nvPicPr>
        <p:blipFill>
          <a:blip r:embed="rId8"/>
          <a:stretch/>
        </p:blipFill>
        <p:spPr>
          <a:xfrm>
            <a:off x="3348000" y="494172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09:51Z</dcterms:created>
  <dc:creator>User</dc:creator>
  <dc:description/>
  <dc:language>en-US</dc:language>
  <cp:lastModifiedBy>Nataly</cp:lastModifiedBy>
  <dcterms:modified xsi:type="dcterms:W3CDTF">2018-09-04T08:47:42Z</dcterms:modified>
  <cp:revision>65</cp:revision>
  <dc:subject/>
  <dc:title>Слайд 1</dc:title>
</cp:coreProperties>
</file>