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4B8-EEFF-4DE2-96EF-F3230776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1F0-F3F2-47A9-A85C-083EE1F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8A7-C666-41F5-8904-B20D3D9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389-4544-4C76-8304-7F942E96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F339-77A0-43F3-81DB-C314D7BE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BDAF-84B6-43FA-B367-67E0021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28D8-EA76-4EC6-9984-236F414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9857-8511-4496-BCD0-5E70A5E8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09CFB-5E39-45E9-96ED-BC03BA92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049EF-850E-4DDF-A046-4282E98C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636AF-F35F-48BF-9814-ADF334A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818-B701-4597-8AB4-509ECB55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1A12-A78F-4255-9743-DCF3C17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9B48E-B8DF-4755-8735-316F346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BE64-313F-4001-8C72-DCEC1D7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EE440-22FA-44AB-9551-93E40576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D280-A883-4DFD-8A9E-E77CCC49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9E6-C318-4A3B-B166-0B0EFFC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222-8F78-4792-9A5B-EEA52537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697-A88D-43E4-B4E4-B39869BC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1CC-51C0-4CF2-BF0E-4CF92E9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8D8-5E7A-4C28-90A4-29D9181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B6D-19C8-494D-8E0A-97B1BAD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433-CED4-45EB-AC40-F5CC327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709-486C-4A98-AF0F-D4EEB3D2E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7AC-383B-4D01-8D62-7B44E7FD79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ладка и Оль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834160" cy="479124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О н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ля - козерог. Родилас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.01.1995.г.Харьк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ада - весы. Родилась 9.10.1995.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г. Харьк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мся в 10 классе 142 школ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ы люби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аться с друзьями, гулять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ках, читать кни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сильно любим смотреть интересные фильмы, все свободное время мы уделяем изучению иностранных языков. Любимый предмет в школе – географ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Мы не любим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хие качества у людей, такие как: злость, зависть, эгоизм. Ведем здоровый образ жизни  и не любим вредные привычки: курение, алкоголь, наркотики. Не цензурную реч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Самые любимые ц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02696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91600"/>
            <a:ext cx="754524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0f6f6"/>
                </a:solidFill>
                <a:latin typeface="Script MT Bold"/>
              </a:rPr>
              <a:t>Любимый праздник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0f6f6"/>
                </a:solidFill>
                <a:latin typeface="Script MT Bold"/>
              </a:rPr>
              <a:t>Новый Год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786200" cy="51339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Ы ОЧЕНЬ КЛАССНЫЕ И ВЕСЕЛЫЕ ДЕВЧО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Ы ЛЮБИМ И ЦЕНИМ НАШУ ЖИЗ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1:21Z</dcterms:created>
  <dc:creator>user_2</dc:creator>
  <dc:description/>
  <dc:language>en-US</dc:language>
  <cp:lastModifiedBy>user_2</cp:lastModifiedBy>
  <dcterms:modified xsi:type="dcterms:W3CDTF">2010-09-17T09:19:45Z</dcterms:modified>
  <cp:revision>5</cp:revision>
  <dc:subject/>
  <dc:title>Владка и Олька</dc:title>
</cp:coreProperties>
</file>