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15B-BC22-4070-BB93-68504791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030-EBBF-4717-AF0F-6E6380A9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741-0ECB-4419-83FE-899213C5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E29-1B57-4F41-9B59-D4F0E023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E154E-7A63-4792-91A0-F35E96FB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942F2-2979-4292-A7D7-A7560C2B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8856E-00E0-4DA4-9EBD-A15F1288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3B14B-C375-4826-91A9-A5C2D4DA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B7D3E-8B3C-4CFF-9433-0A160D7E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661E9-0A92-48ED-9926-91CA98C8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46624-EDDC-4476-8DED-458D051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63B-5BD4-4B6F-B89A-A28EAD00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23DFB-088A-41B5-9B95-94F7971D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37A84-2127-49DD-8331-41AD45A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2910C-D9F2-4BC7-9E6A-C8DF54E8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FDB87-CE8B-4E64-88C3-3258F5A1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9C740-F69F-4461-82FC-CAF0703C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083-23AA-4DAA-BFC5-26A2A919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EFB-E138-431E-8F35-F3F09172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57B-EB38-40B1-B683-0D7FEE84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514-215F-494F-8D05-50EDAFDB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931-21AD-4176-9028-852F4515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F9E-A640-42EE-8A59-6048ED4B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022-5D95-4C09-9698-DB8A404C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6A12-F239-4128-BF77-389F5C70A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5D33-584F-49C9-A665-9DAD8FAFDA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ладка и Оль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5834160" cy="479124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О н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ля - козерог. Родилас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.01.1995.г.Харьк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лада - весы. Родилась 9.10.1995.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г. Харьк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мся в 10 классе 142 школ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ы любим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щаться с друзьями, гулять 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ках, читать кни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сильно любим смотреть интересные фильмы, все свободное время мы уделяем изучению иностранных языков. Любимый предмет в школе – географ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Мы не любим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охие качества у людей, такие как: злость, зависть, эгоизм. Ведем здоровый образ жизни  и не любим вредные привычки: курение, алкоголь, наркотики. Не цензурную реч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Самые любимые ц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026960"/>
            <a:ext cx="8229600" cy="19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91600"/>
            <a:ext cx="754524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0f6f6"/>
                </a:solidFill>
                <a:latin typeface="Script MT Bold"/>
              </a:rPr>
              <a:t>Любимый праздник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0f6f6"/>
                </a:solidFill>
                <a:latin typeface="Script MT Bold"/>
              </a:rPr>
              <a:t>Новый Год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786200" cy="513396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Ы ОЧЕНЬ КЛАССНЫЕ И ВЕСЕЛЫЕ ДЕВЧОН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Ы ЛЮБИМ И ЦЕНИМ НАШУ ЖИЗ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sh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8:01:21Z</dcterms:created>
  <dc:creator>user_2</dc:creator>
  <dc:description/>
  <dc:language>en-US</dc:language>
  <cp:lastModifiedBy>user_2</cp:lastModifiedBy>
  <dcterms:modified xsi:type="dcterms:W3CDTF">2010-09-17T09:19:45Z</dcterms:modified>
  <cp:revision>5</cp:revision>
  <dc:subject/>
  <dc:title>Владка и Олька</dc:title>
</cp:coreProperties>
</file>