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E559-A53C-49D0-B400-DE1E2FB31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FDF3-FC63-42DA-A64C-C627DD3B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8160-483A-4F03-B2BC-65FBFBC6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DA6C-EFF6-4F51-BED8-916CDF02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952D0-F090-43FF-8BFD-EDC7E2B1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0B6E1-E5A6-4DED-A49A-5166AE92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16671-07C1-4B98-8017-7A4A8DAD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E5236-CE9D-40A2-A80E-392CFC1A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D2F0D-02B3-40FA-A52A-F7D017ED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DF876-E9EE-44FF-BA12-F915FB0E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2DA1E-2AD8-49E4-A2DE-D2AAFCE1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4C11-B374-48F2-A60C-C845D15B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967D9-D6C2-44CC-A5F6-1184892E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9EF21-05C7-4676-8213-77365D38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F7B9E-7CFD-408B-B8D5-79DB9E4C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1AE5B-86FC-4F0C-AF25-A1BE89BCA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02667-6A97-4049-A3F8-700C937C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4151-B77B-4380-8290-ADC5A1DE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54C5-461D-46DC-A94D-1041AED1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0EC0-520E-4692-82E0-6E6E118E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AC8A-211D-4582-AECF-8ED85AA0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7523-F6D4-4482-A3B7-B24D281F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8AF6-FFC5-483B-9736-5AE82429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DA77-40A9-4A7C-B56D-AABB7C27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496C-2F58-4AD0-A788-1A1DF1D08F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7DE8-A862-4A1A-8B8B-6CDCDAC23B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Tahoma"/>
              </a:rPr>
              <a:t>Герасименко</a:t>
            </a:r>
            <a:r>
              <a:rPr b="0" lang="en-US" sz="4400" spc="-1" strike="noStrike">
                <a:solidFill>
                  <a:srgbClr val="66ff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99ff"/>
                </a:solidFill>
                <a:latin typeface="Tahoma"/>
              </a:rPr>
              <a:t>Анастасия и Кононенко Але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ahoma"/>
              </a:rPr>
              <a:t>Кратка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99ff"/>
                </a:solidFill>
                <a:latin typeface="Tahoma"/>
              </a:rPr>
              <a:t>жизненна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99ff"/>
                </a:solidFill>
                <a:latin typeface="Tahoma"/>
              </a:rPr>
              <a:t>биограф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143000" y="838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371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Анастасия </a:t>
            </a:r>
            <a:r>
              <a:rPr b="0" i="1" lang="en-US" sz="4400" spc="-1" strike="noStrike">
                <a:solidFill>
                  <a:srgbClr val="ffffff"/>
                </a:solidFill>
                <a:latin typeface="Arial Narrow"/>
              </a:rPr>
              <a:t>Владиславовна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родилась в городе Харькове 26 декабря 1994 г.В детстве увлекалась рисованием и пением. Была членом клуба «Карапуз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 flipV="1" rot="696600">
            <a:off x="4952880" y="1510560"/>
            <a:ext cx="1067040" cy="3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Алена Юриевна </a:t>
            </a: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родилась в городе Киеве, 9 июня </a:t>
            </a: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1995 г.В детстве увлекалась конкуром и рисованием. Была членом Дворца юных талантов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знакомились в ХЗОШ №142 в 2001 году. С 2005 участники организации по правам защиты животных. Активно занимаемся защитой окружающей среды. Хотим что бы люди всегда жили в гармонии с природой и сами с собой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чень любим активный отдых, путешествуем по разным странам мира. Увлекаемся туризмом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295280" y="1600200"/>
            <a:ext cx="61722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00ff">
                    <a:alpha val="65000"/>
                  </a:srgbClr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6600ff">
                  <a:alpha val="65000"/>
                </a:srgbClr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4</cp:lastModifiedBy>
  <dcterms:modified xsi:type="dcterms:W3CDTF">2010-09-17T09:29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