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469-9B58-4485-86A9-CFF6E0BB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5BD-CD0D-4BE5-994E-157BA68B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296-D743-44A1-AC4E-E99326AE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BDE-92C3-4989-AD25-7551CE1C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B21C4-FC26-40FF-8BCD-85B262DB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24DE0-6B54-488F-A4E9-56F8FC77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BA0E8-F4C5-495C-BFAB-8881B151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D4A50-8262-45C8-B69E-A70A4C53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33C9-F357-4DE0-BBE0-ED2664B6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92031-1B10-4471-ADE4-E59A738F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E027B-B4DA-491A-AF31-E924D749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B86-1581-41F2-A77A-67C650DE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00817-CAF5-42F3-8DAF-E302EEB8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3D84C-2BBB-45D4-BE12-9F724395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C9B9C-9519-4B88-A954-2665EFB4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44A05-7739-48BB-8023-2DDA79FD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57E0C-E14D-48F2-9B01-6BAC83FD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8FD-DD7D-468C-A6FB-40CE02A3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1B1-6FA6-4140-95FC-F7CED314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E2C-CE0A-4D48-87B3-A55536CE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F51-4807-4938-94AF-59A1FDA3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DCF-9AA8-4276-B8D5-9D23A6E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C1E-564E-42EA-A591-D84DFB41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528-DE3D-4B49-AB1D-6C72307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F549-6BD3-4827-9C44-D6F11181C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6F2C-E606-4706-A63C-D01F90A02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Герасименко</a:t>
            </a: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Анастасия и Кононенко Ал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ahoma"/>
              </a:rPr>
              <a:t>Кратк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Tahoma"/>
              </a:rPr>
              <a:t>жизненн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Tahoma"/>
              </a:rPr>
              <a:t>биогра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1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Анастасия </a:t>
            </a:r>
            <a:r>
              <a:rPr b="0" i="1" lang="en-US" sz="4400" spc="-1" strike="noStrike">
                <a:solidFill>
                  <a:srgbClr val="ffffff"/>
                </a:solidFill>
                <a:latin typeface="Arial Narrow"/>
              </a:rPr>
              <a:t>Владиславовна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родилась в городе Харькове 26 декабря 1994 г.В детстве увлекалась рисованием и пением. Была членом клуба «Карапуз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V="1" rot="696600">
            <a:off x="4952880" y="1510560"/>
            <a:ext cx="106704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Алена Юриевна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одилась в городе Киеве, 9 июня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1995 г.В детстве увлекалась конкуром и рисованием. Была членом Дворца юных талантов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знакомились в ХЗОШ №142 в 2001 году. С 2005 участники организации по правам защиты животных. Активно занимаемся защитой окружающей среды. Хотим что бы люди всегда жили в гармонии с природой и сами с собой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чень любим активный отдых, путешествуем по разным странам мира. Увлекаемся туризмом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95280" y="160020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ff">
                    <a:alpha val="65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6600ff">
                  <a:alpha val="65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4</cp:lastModifiedBy>
  <dcterms:modified xsi:type="dcterms:W3CDTF">2010-09-17T09:29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