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5848-C5D7-4439-A74C-D17F5BF0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559-62FA-4B5D-8158-1B6FB2BA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87D-5F4E-4652-8703-73BF5DB2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F40-B948-4AB1-B425-AC0FC80C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ACB5-DEA8-466D-B6EF-1CB03804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0133-DBA8-4289-918F-9B070364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B5C2-A7A5-46A5-A49E-203EB7C8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6E0F-3E05-4785-ADDC-DFD64C7B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B1F7-8F14-4840-BD1B-6290D91C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7246-37CE-4E7F-8561-8B9F9BE2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ACB6-A498-4479-BA9F-268131FE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BC2-6BC5-4069-ADB0-83F78CBD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E01B-EFA1-4D65-8E1D-AA39FE42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88EF-9036-4DBA-9B7C-5F28BB4C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646C-1FF8-4C75-B1BD-B45FD8C2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9B09-C3C4-4805-8B0E-20B19E44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9944-28E6-47BE-ABF4-E7C4A364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147E-ABCF-48EF-B0E4-3F028D35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AC18-601F-4810-96C7-DB2A21AD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146-803F-4448-833C-7936A69A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0798-CF30-4045-B575-679D0A63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93F4-EE93-482B-8D6A-F6DDFEDE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1FF2-38BF-456F-B11B-53ECC193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12D-6856-443C-9F35-942EF724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2C2E-3056-41F7-9ECF-CE7F409A0B8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9327-FB93-4538-99B5-A905A7F9625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♥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Леночка    Доценко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♥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Я родилась 16.01.199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По знаку зодиака я Козерог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♥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648400" y="2228760"/>
            <a:ext cx="1809720" cy="14860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2484360" y="4076640"/>
            <a:ext cx="196704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Что я люблю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воего котика Тигрик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Люблю Бориса Апреля (его песни)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♫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Ранеток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♫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Маму с папой ♥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Бабушек, сестру Диану♥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И всех своих друзей и родных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Что нелюблю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Не люблю в людях зла, зависти, наглости, жадности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Ненавижу задавак и глупых люде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643720" y="4270320"/>
            <a:ext cx="181908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Моё настроение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Я очень весёлая всегда, но если меня кто-то обидит я буду очень злая на обидчика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7:57:55Z</dcterms:created>
  <dc:creator>User_2</dc:creator>
  <dc:description/>
  <dc:language>en-US</dc:language>
  <cp:lastModifiedBy>User_2</cp:lastModifiedBy>
  <dcterms:modified xsi:type="dcterms:W3CDTF">2010-09-17T09:15:30Z</dcterms:modified>
  <cp:revision>7</cp:revision>
  <dc:subject/>
  <dc:title>Леночка        Доценко </dc:title>
</cp:coreProperties>
</file>