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jpeg" ContentType="image/jpeg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F044-83BE-453F-AE48-E090DF176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268A-2A9B-45D9-9089-1B58601C8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58BC-3DC4-410E-812D-1A6DBEEA6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95AD-742E-41FD-A17E-1796203E5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DDEDF-6898-452A-9E51-82BA62F7D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76277-4B93-441D-A9A6-85EFA9C4B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DC37F-FC73-45C5-B47A-49FC8A4F2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0E4EE-995D-4D1E-A74C-FBE7FAB81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C8401-EBE5-4B7D-A8C3-063745E73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F00B9-93E8-4646-A34D-C70A62ED8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68F3F-1783-49F2-B5BF-DAC6EC4F6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F32C-6F57-4CD9-A122-48CCA792E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EF209-51DC-45B2-A9AB-B2BA86680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5EEB7-D6D6-4392-A0EA-07B2B0A51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B3D67-A136-4B3B-9571-661027412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C36BD-3903-4476-9002-DB18D95F0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EAB60-9B37-4F60-BCC7-33FD112BD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3CD0-BC15-48F3-9F5B-3FCFB1DC4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ABA9-A73A-406E-A144-A63C4FB16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4179-3AD8-4FAB-801C-75B39311A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E1C6-C77A-4A9A-8CA6-055A67237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DC2F-4878-4B36-9CD3-E9E51A360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5199-2EA9-4764-8709-FD5F01D69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5881-12C3-4208-81EF-C9FC96F6A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9f237f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9f237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9f237f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9f237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9f237f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9f237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f237f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03e7"/>
                    </a:gs>
                    <a:gs pos="100000">
                      <a:srgbClr val="9f237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03e7"/>
                    </a:gs>
                    <a:gs pos="100000">
                      <a:srgbClr val="753bcb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53bcb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03e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03e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03e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03e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753bcb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C967B-818B-4F00-9914-827B4F2BB50F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9f237f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9f237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9f237f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9f237f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39a6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753bc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39a6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753bc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39a6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03e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753bcb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03e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03e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03e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993DA-9067-42D9-A313-2A8488CFB353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4360" y="22046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♥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Леночка    Доценко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♥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Я родилась 16.01.1995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По знаку зодиака я Козерог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♥♦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5648400" y="2228760"/>
            <a:ext cx="1809720" cy="148608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/>
          <p:cNvPicPr/>
          <p:nvPr/>
        </p:nvPicPr>
        <p:blipFill>
          <a:blip r:embed="rId2"/>
          <a:stretch/>
        </p:blipFill>
        <p:spPr>
          <a:xfrm>
            <a:off x="2484360" y="4076640"/>
            <a:ext cx="1967040" cy="198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Что я люблю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Своего котика Тигрика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Люблю Бориса Апреля (его песни)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♫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Ранеток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♫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Маму с папой ♥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Бабушек, сестру Диану♥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И всех своих друзей и родных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4648320" y="261000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Что нелюблю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Не люблю в людях зла, зависти, наглости, жадности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Ненавижу задавак и глупых людей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5148360" y="1484280"/>
            <a:ext cx="1825560" cy="172548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"/>
          <p:cNvPicPr/>
          <p:nvPr/>
        </p:nvPicPr>
        <p:blipFill>
          <a:blip r:embed="rId2"/>
          <a:stretch/>
        </p:blipFill>
        <p:spPr>
          <a:xfrm>
            <a:off x="5643720" y="4270320"/>
            <a:ext cx="1819080" cy="1668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Моё настроение☺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Я очень весёлая всегда, но если меня кто-то обидит я буду очень злая на обидчика!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7T07:57:55Z</dcterms:created>
  <dc:creator>User_2</dc:creator>
  <dc:description/>
  <dc:language>en-US</dc:language>
  <cp:lastModifiedBy>User_2</cp:lastModifiedBy>
  <dcterms:modified xsi:type="dcterms:W3CDTF">2010-09-17T09:15:30Z</dcterms:modified>
  <cp:revision>7</cp:revision>
  <dc:subject/>
  <dc:title>Леночка        Доценко </dc:title>
</cp:coreProperties>
</file>