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A0B-A5D1-462D-A19D-301DEAFB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E4A-D367-48B2-9FE2-052E82CA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43D-7685-4DEA-A8FC-2D102B01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10B-63EA-42F4-974D-4DDF747D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FD1B-E66B-4376-81CF-AC4EA089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FA9A-F7F5-4A73-B469-4CEA9420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0656-302D-43A2-8352-64FEB9E8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2F04-9C5C-40E1-9D77-AB9741DC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84A5-48AA-47CB-9569-8FEF5B66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F46A-9DE8-4846-AFEF-2A646A0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C3C4-5876-4BB3-9A9C-3BFB485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CFA-EC1F-4AFD-A64B-D2243062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26BC-197E-4F9B-8FEE-5DE3B8D4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566B-14DE-4B54-A342-E48E249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6AE2-8CA8-482A-8575-7C98C0E2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C144-FB6E-4AA3-8CE1-30D218E1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C02B-C445-42D1-B1D4-5797C64D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309-0DB0-4D99-AE0C-0DC43EA7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3B4-D179-4BA4-AD86-C49DDDC6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CBA-F962-464F-9D27-8EFF4333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7B5-8C80-4D77-BF42-F0776B6C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9DB-C064-48F2-83CA-162CAD5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770-16BE-4090-8BE4-7F4772A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0A4-8BEC-4FC1-AC90-77141F5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B608-50EC-4DD9-9139-DD12620F8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B499-EFE4-49C8-85CE-36F0E747B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0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c5ff"/>
                </a:solidFill>
                <a:latin typeface="Arial"/>
              </a:rPr>
              <a:t>♣♣ </a:t>
            </a:r>
            <a:r>
              <a:rPr b="1" lang="en-US" sz="5400" spc="-1" strike="noStrike">
                <a:solidFill>
                  <a:srgbClr val="c5c5ff"/>
                </a:solidFill>
                <a:latin typeface="Copperplate Gothic Bold"/>
              </a:rPr>
              <a:t>Мещерякова </a:t>
            </a:r>
            <a:r>
              <a:rPr b="1" lang="en-US" sz="5400" spc="-1" strike="noStrike">
                <a:solidFill>
                  <a:srgbClr val="c5c5ff"/>
                </a:solidFill>
                <a:latin typeface="Times New Roman"/>
              </a:rPr>
              <a:t>♣♣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☺ 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</a:rPr>
              <a:t>Жен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Родилась</a:t>
            </a: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 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684036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ороде Харьков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 сентября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995 год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24360" y="2706840"/>
            <a:ext cx="194796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Люблю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35280" y="2471760"/>
            <a:ext cx="42480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5ff"/>
                </a:solidFill>
                <a:latin typeface="Times New Roman"/>
              </a:rPr>
              <a:t>Летни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5c5ff"/>
                </a:solidFill>
                <a:latin typeface="Times New Roman"/>
              </a:rPr>
              <a:t>дожд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5ff"/>
                </a:solidFill>
                <a:latin typeface="Times New Roman"/>
              </a:rPr>
              <a:t>Музы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5ff"/>
                </a:solidFill>
                <a:latin typeface="Times New Roman"/>
              </a:rPr>
              <a:t>И не представляю свою жизнь без танц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32560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59280" y="3789360"/>
            <a:ext cx="3384720" cy="27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Не люблю…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1152360" cy="1111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96200" y="443700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337520" y="69228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1197000"/>
            <a:ext cx="1620720" cy="2546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4896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оле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оль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бу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ЬСЯ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                       </a:t>
            </a: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Мое настроени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79640" y="2327040"/>
            <a:ext cx="477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е повышается перед выходными!!!!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)))))))))))))))))))))))))))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3689280" cy="37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7:56:55Z</dcterms:created>
  <dc:creator>user_2</dc:creator>
  <dc:description/>
  <dc:language>en-US</dc:language>
  <cp:lastModifiedBy>user_2</cp:lastModifiedBy>
  <dcterms:modified xsi:type="dcterms:W3CDTF">2010-09-17T09:13:13Z</dcterms:modified>
  <cp:revision>5</cp:revision>
  <dc:subject/>
  <dc:title>Мещерякова</dc:title>
</cp:coreProperties>
</file>