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99F-2AAE-4D57-84CF-936DCC3E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CA8-8CA9-4122-8DAC-62779A82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557-D9A8-481E-B242-616B0D30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0CA-F2DC-483C-8D30-38576604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8FDC-0EB1-4E61-88E8-56047B1F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086-39C4-42A7-8C08-1ACE0C83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7C99-3883-42D5-A64F-4AD87178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C81-3289-4BA3-9520-5B355DE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DD4-DAD6-461B-ACDA-D9F1100A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4E5-C6FC-48B8-B580-2722B941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3BF-B127-481C-9844-01EC23D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888-41FF-4883-BFD5-88A094E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AA1-0B34-4F0A-81EC-A84B8C1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1672-7913-4B53-8826-B89572D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6F95-A979-48D5-A72F-1276C700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C9D0-8611-49F8-97FC-85BC9E78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5491-C7A2-4062-9A00-51B37791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644-C7C4-430E-8BAD-6A1CD16A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808-3108-496F-BFB9-19D79B6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405-AEB8-4934-A62B-3226CDFF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E92-F103-4661-B42D-BE1CDB6A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163-88B5-4D0B-9304-779651D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939-B3EB-46F1-8FEF-D976A58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D76-059C-4479-ABF0-22C0649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72DB-D188-4614-A4F2-F8096986E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CF7-A3BE-45FA-A0A7-4FF6E081F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Arial"/>
              </a:rPr>
              <a:t>♣♣ </a:t>
            </a:r>
            <a:r>
              <a:rPr b="1" lang="en-US" sz="5400" spc="-1" strike="noStrike">
                <a:solidFill>
                  <a:srgbClr val="c5c5ff"/>
                </a:solidFill>
                <a:latin typeface="Copperplate Gothic Bold"/>
              </a:rPr>
              <a:t>Мещерякова </a:t>
            </a: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♣♣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☺ 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Жен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Родилась</a:t>
            </a: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 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84036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оде Харьков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сентября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995 год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24360" y="2706840"/>
            <a:ext cx="194796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Люблю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35280" y="2471760"/>
            <a:ext cx="42480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Летни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дожд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Музы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5ff"/>
                </a:solidFill>
                <a:latin typeface="Times New Roman"/>
              </a:rPr>
              <a:t>И не представляю свою жизнь без танц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32560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59280" y="3789360"/>
            <a:ext cx="3384720" cy="27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Не люблю…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1152360" cy="1111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96200" y="443700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337520" y="6922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1197000"/>
            <a:ext cx="1620720" cy="2546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4896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оле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оль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бу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ЬСЯ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Мое настроени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79640" y="2327040"/>
            <a:ext cx="47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е повышается перед выходными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)))))))))))))))))))))))))))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3689280" cy="37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7:56:55Z</dcterms:created>
  <dc:creator>user_2</dc:creator>
  <dc:description/>
  <dc:language>en-US</dc:language>
  <cp:lastModifiedBy>user_2</cp:lastModifiedBy>
  <dcterms:modified xsi:type="dcterms:W3CDTF">2010-09-17T09:13:13Z</dcterms:modified>
  <cp:revision>5</cp:revision>
  <dc:subject/>
  <dc:title>Мещерякова</dc:title>
</cp:coreProperties>
</file>