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81C-658D-47AC-9FCD-011FC0B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DDF-6364-4332-87ED-EA4FC80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42C-2D06-4705-96B9-0FD32CD1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A0B-E4BF-4338-AAEC-E96E4AC0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83AF1-7403-4150-BFB4-1BCE82F6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2A77-BC88-4C22-BBB9-CB54DF3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B4DE0-F064-4BF9-B841-C87185C1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F932-BE20-4A85-AAE1-FEAE328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1FCAA-FBB8-46BE-BC88-BD50173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F6CB-A315-4EC4-A28D-3604FC4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4018F-6A22-41AB-9EA1-B808CB0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B3F-6EA9-4F30-BA4C-DE868B14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C97F1-D8C2-42AC-A053-6EF9A7E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B0CE2-1C24-42E9-BB5D-4B377E8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FCBE-F167-47F5-917E-02D6EC7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24FCB-2580-4C00-98B4-3A5C45FC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3E58B-BCE5-456B-BD0C-4103400D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B5A-FBE9-4728-8FF8-A7BF844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037-678D-450B-8211-8C5D974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1B3-C02D-43A1-81DC-3737B359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071-028E-4E7E-BD74-D6DFC23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7B3-7A45-42B2-9906-DDA017E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D8E-77FB-45B6-9CB1-ADCA082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2B7-D937-4C21-94B5-9C0AF512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0EE-DB76-4D36-9978-1CA1930A7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D2DE-8D21-4470-9D2E-2B1847C2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ильшина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Ель-Наче Дана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од 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О нас:</a:t>
            </a:r>
            <a:br>
              <a:rPr sz="4000"/>
            </a:b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я:  7апреля 1994. Знак зодиака – ов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а: 11марта 1995. Знак зодиака – ры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Наши интересы: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Клубник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оровать подсолнухи У соседки моей бабули,Играть на гитаре,Маш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ы, Милые котята и малина))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469000">
            <a:off x="0" y="0"/>
            <a:ext cx="2357280" cy="246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1591800">
            <a:off x="6659640" y="475920"/>
            <a:ext cx="26524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46600">
            <a:off x="6141600" y="4437000"/>
            <a:ext cx="300204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20793600">
            <a:off x="323640" y="4220640"/>
            <a:ext cx="299880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276720" y="4508640"/>
            <a:ext cx="26413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Что не любим((((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на природе комары кус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гитара не стро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рассыпается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0267400">
            <a:off x="4788000" y="3068280"/>
            <a:ext cx="4038480" cy="299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1409400">
            <a:off x="5651280" y="907920"/>
            <a:ext cx="299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1448800">
            <a:off x="755280" y="4365720"/>
            <a:ext cx="300204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ше настроение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1116360" y="1915920"/>
            <a:ext cx="72104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весёлый Дед Мороз =))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4240" y="1484280"/>
            <a:ext cx="464976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17:34Z</dcterms:created>
  <dc:creator>user_2</dc:creator>
  <dc:description/>
  <dc:language>en-US</dc:language>
  <cp:lastModifiedBy>user_2</cp:lastModifiedBy>
  <dcterms:modified xsi:type="dcterms:W3CDTF">2010-09-17T09:18:17Z</dcterms:modified>
  <cp:revision>2</cp:revision>
  <dc:subject/>
  <dc:title>Мильшина аня &amp; Ель-Наче Дана</dc:title>
</cp:coreProperties>
</file>