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140-A2D0-40EF-8D44-BA0E3BBC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AB5-69D2-4527-8C51-4F283A18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780-41AC-4392-80F9-938D2638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963-1E5D-4EA8-B034-482A8D36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EA2B0-A4FF-47BA-A35D-9B8D93E4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55A9E-6CE4-48EB-AD1D-DC3D6157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060A1-4A01-4E93-83D4-0377101B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0BC08-B699-4EBD-995C-CB6E72CF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C88AE-E0FB-4424-86C6-A2328615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91D1D-F48C-44AC-BC99-ECF5BACD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A6B8D-D05B-48E0-B76B-5EC4088B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6EC-917B-4ECA-B227-E1391882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FC1FC-2BB7-47A1-B022-1374AEFE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A123E-51CF-4FB6-AB2A-F5A2A84A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B9B9D-1F27-4AAB-9C18-7CDACD8F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9F9DE-B61A-4750-B43B-C1DAFF14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0A8EF-EFBD-4206-A7A1-A64FFC67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477-B523-49B8-AB9B-860F23AE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460-26CF-49DB-9773-A6D49BEB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E1C-1A9F-4AA5-B93D-E3C23A9D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973-512E-4A9B-9278-F2B8E90B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B37-6375-4822-91AD-2643FD46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2725-84D5-430F-AD89-AD85C761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31E-2614-4F8B-BA09-DE4C1EEF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6D66-6B9A-41AC-8697-90A1B8DD1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FBAE-B3D9-4889-8E6E-03C2E06F1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ильшина 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Ель-Наче Дана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Год рожд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О нас:</a:t>
            </a:r>
            <a:br>
              <a:rPr sz="4000"/>
            </a:b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я:  7апреля 1994. Знак зодиака – ов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на: 11марта 1995. Знак зодиака – рыб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42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Наши интересы: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Клубника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,</a:t>
            </a: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оровать подсолнухи У соседки моей бабули,Играть на гитаре,Маши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ы, Милые котята и малина))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20469000">
            <a:off x="0" y="0"/>
            <a:ext cx="2357280" cy="246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1591800">
            <a:off x="6659640" y="475920"/>
            <a:ext cx="265248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 rot="546600">
            <a:off x="6141600" y="4437000"/>
            <a:ext cx="3002040" cy="1981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 rot="20793600">
            <a:off x="323640" y="4220640"/>
            <a:ext cx="299880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3276720" y="189000"/>
            <a:ext cx="264456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3276720" y="4508640"/>
            <a:ext cx="264132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        </a:t>
            </a: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Что не любим((((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гда на природе комары кус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гда гитара не стро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гда рассыпается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rot="20267400">
            <a:off x="4788000" y="3068280"/>
            <a:ext cx="4038480" cy="299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rot="1409400">
            <a:off x="5651280" y="907920"/>
            <a:ext cx="299880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rot="21448800">
            <a:off x="755280" y="4365720"/>
            <a:ext cx="300204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ше настроение: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1116360" y="1915920"/>
            <a:ext cx="721044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 весёлый Дед Мороз =)))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4240" y="1484280"/>
            <a:ext cx="4649760" cy="49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8:17:34Z</dcterms:created>
  <dc:creator>user_2</dc:creator>
  <dc:description/>
  <dc:language>en-US</dc:language>
  <cp:lastModifiedBy>user_2</cp:lastModifiedBy>
  <dcterms:modified xsi:type="dcterms:W3CDTF">2010-09-17T09:18:17Z</dcterms:modified>
  <cp:revision>2</cp:revision>
  <dc:subject/>
  <dc:title>Мильшина аня &amp; Ель-Наче Дана</dc:title>
</cp:coreProperties>
</file>