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BCD-C557-432C-AF49-6ED874F5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55F-4E3D-4E1D-AB6F-01A6A720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C1E-BD4C-47DF-8758-47F534F8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A43-02E3-4773-912E-4BDDA75E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7FE6-BC6B-401C-ABD8-BEB0587D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D430-3655-4366-A957-D5AEF257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58D7-CB62-4183-87C4-C49516BC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CE78-C851-4481-912A-D14128FD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5F28-EC96-4BEB-BAF0-65E65DAC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F653-F628-4EF7-9F72-2431361B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CA19-59D0-4512-9698-5F51F4F0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817-B3B0-48BF-8CF5-E2EFE07A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639C-EF4E-44A3-A48F-C844FF7A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A012-D329-4A0D-9773-FA0D668E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CB05-9E50-49AA-882C-47287009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D789-E13F-4D48-A944-5FCA4A2D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EFBD-DA1E-468A-8899-C31953F8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29B-5820-4E84-A174-E1BC002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BA2-B7DC-4E2B-86A0-39DD5695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101-FB11-4ED7-9512-80290B80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611-D851-4F30-8CBB-7DFC25FA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3A4-9287-4301-9702-E387844E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AAB-8317-47AC-A1B9-7C9295F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153-56EF-4DBA-A54B-9ADFB8CB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084C-1104-49A9-875D-32CE9781DE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39D6-FE58-42CF-B78C-1A4C8F2594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с зовут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майлова Валера* Бабеночка Карина* Китчуньчик Марина 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ши знаки зодиака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лерия - 14 декабря 1994 год, стрелец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ина – 7 июля 1994 год, рак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рина – 20 июля 1994 год, рак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819440" cy="136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669 C 0.08333 0.02315 0.16823 -0.01898 0.21719 -0.00856 C 0.26615 0.00139 0.26094 0.11598 0.29271 0.12477 C 0.32413 0.13334 0.36076 0.08264 0.40712 0.0463 C 0.45382 0.01042 0.52969 -0.09977 0.57153 -0.09421 C 0.61354 -0.08842 0.63246 0.03935 0.66042 0.08125 C 0.68819 0.12477 0.72535 0.14792 0.73924 0.16273 E">
                                      <p:cBhvr>
                                        <p:cTn id="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м это нравится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201600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2305080" cy="1752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00720" y="4221000"/>
            <a:ext cx="3024000" cy="187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о мы не любим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инское отношение людей друг к другу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10160" y="2254320"/>
            <a:ext cx="3771720" cy="280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3676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ше настро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еч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дост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ветущ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етл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рк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просто замечатель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10160" y="2254320"/>
            <a:ext cx="3771720" cy="280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24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8:00:21Z</dcterms:created>
  <dc:creator>лысенко</dc:creator>
  <dc:description/>
  <dc:language>en-US</dc:language>
  <cp:lastModifiedBy>лысенко</cp:lastModifiedBy>
  <dcterms:modified xsi:type="dcterms:W3CDTF">2010-09-17T09:18:04Z</dcterms:modified>
  <cp:revision>6</cp:revision>
  <dc:subject/>
  <dc:title>Слайд 1</dc:title>
</cp:coreProperties>
</file>