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04B-BC43-49B2-A7D7-9E3E6EDF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2F3-7C33-465E-BE3B-A5A8C902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58B-BCCA-44AD-8844-C5A8F42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066-0704-4679-88CF-7BA29DE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97ED-0996-439E-AEFC-975DC1D4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C13C-BC59-455E-B130-EA7B116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5D6-1D76-43E5-8ABF-FCB0E7E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400F-23CD-49B6-B75B-05178D1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D5C4-8C2E-4283-B662-A82B070D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49FF-A09E-4124-90AA-882CD25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F703-D7EC-4112-BE8D-B66C805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E77-E5D1-4D04-BEF0-2EF0381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A0F5-0BC0-47F4-AA10-E9CB241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00E-3A97-45F5-82D3-C7E5805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D48-478B-4BC1-B0D2-85E7D737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00B-8E47-4EB1-9080-20E68A42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D022-821E-44B2-AA60-FAE73614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094-E3BB-49B4-BB24-52E9B0A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3D2-AB87-4B61-8D98-161C1C4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8F9-95EC-4593-BD8A-34A21C76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C76-1474-41E4-832B-536C68C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001-15F4-4CAC-986E-163058F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E66-C2D8-42C1-859C-3F85A1F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21C-A234-459E-9F7E-FF711AE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DDB-7522-4AD9-83AE-285FFCE11A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FC4-CDBC-49F4-AEDD-983A79C3A9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с зовут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майлова Валера* Бабеночка Карина* Китчуньчик Марина 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и знаки зодиака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лерия - 14 декабря 1994 год, стрелец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ина – 7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рина – 20 июля 1994 год, рак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9 C 0.08333 0.02315 0.16823 -0.01898 0.21719 -0.00856 C 0.26615 0.00139 0.26094 0.11598 0.29271 0.12477 C 0.32413 0.13334 0.36076 0.08264 0.40712 0.0463 C 0.45382 0.01042 0.52969 -0.09977 0.57153 -0.09421 C 0.61354 -0.08842 0.63246 0.03935 0.66042 0.08125 C 0.68819 0.12477 0.72535 0.14792 0.73924 0.1627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м это нравится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20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00720" y="4221000"/>
            <a:ext cx="302400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 мы не любим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инское отношение людей друг к друг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3676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ше настро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еч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до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ветущ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л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к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росто замечатель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10160" y="2254320"/>
            <a:ext cx="3771720" cy="28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24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0:21Z</dcterms:created>
  <dc:creator>лысенко</dc:creator>
  <dc:description/>
  <dc:language>en-US</dc:language>
  <cp:lastModifiedBy>лысенко</cp:lastModifiedBy>
  <dcterms:modified xsi:type="dcterms:W3CDTF">2010-09-17T09:18:04Z</dcterms:modified>
  <cp:revision>6</cp:revision>
  <dc:subject/>
  <dc:title>Слайд 1</dc:title>
</cp:coreProperties>
</file>