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596-57C0-4C07-8A3A-FC7B55FE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166-F07F-49C0-B593-1C226EDC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FAD-7A0D-46AF-877D-4972CF65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D25-342C-4F6C-98F1-81DA926E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95AB-A694-4170-8A8C-1B6C1670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33F7-51E8-4A67-8325-46710AD9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07EE-8FA8-49A3-99C4-09B684E5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CE13-6D3B-46B9-B241-E12D5B2E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F752-8952-481D-9D42-41D93B57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86BF-2F94-4140-8471-770DDF74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DB00-30B7-48F4-BFF8-0AE5853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E8C-9AD8-4B8A-8A2B-A5BF4459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5ECF-1954-4117-985C-8F2C9556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AD1-6868-4195-B4F3-145EBC5E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386F-63E9-4922-B554-2B30E979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ABD4-4872-4B3C-857D-C2FADE31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F30D-AF38-488B-B23C-2E7C793A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03D-F519-4B47-B4EB-3544DA12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069-18E7-438A-98BD-5434EAAB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F61-C6D2-400E-9038-6E50F72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A1E-D1D2-48DB-8CE2-7715305A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42F-D4F1-4260-ADBE-C7AB7CD5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147-7207-42CF-AAA2-A8F25B1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3A6-7047-4CB9-B4EF-D89028F3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2477-5A91-4A23-AE44-84EE82E1A0C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9842-FA3B-49CE-A67E-564E1FB712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с зовут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майлова Валера* Бабеночка Карина* Китчуньчик Марина 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ши знаки зодиака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лерия - 14 декабря 1994 год, стрелец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ина – 7 июля 1994 год, рак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рина – 20 июля 1994 год, рак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819440" cy="136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669 C 0.08333 0.02315 0.16823 -0.01898 0.21719 -0.00856 C 0.26615 0.00139 0.26094 0.11598 0.29271 0.12477 C 0.32413 0.13334 0.36076 0.08264 0.40712 0.0463 C 0.45382 0.01042 0.52969 -0.09977 0.57153 -0.09421 C 0.61354 -0.08842 0.63246 0.03935 0.66042 0.08125 C 0.68819 0.12477 0.72535 0.14792 0.73924 0.16273 E">
                                      <p:cBhvr>
                                        <p:cTn id="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м это нравится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201600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2305080" cy="1752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00720" y="4221000"/>
            <a:ext cx="3024000" cy="187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о мы не любим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инское отношение людей друг к другу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10160" y="2254320"/>
            <a:ext cx="3771720" cy="280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3676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ше настро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еч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дост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ветущ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етл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рк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просто замечатель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10160" y="2254320"/>
            <a:ext cx="3771720" cy="280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24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8:00:21Z</dcterms:created>
  <dc:creator>лысенко</dc:creator>
  <dc:description/>
  <dc:language>en-US</dc:language>
  <cp:lastModifiedBy>лысенко</cp:lastModifiedBy>
  <dcterms:modified xsi:type="dcterms:W3CDTF">2010-09-17T09:18:04Z</dcterms:modified>
  <cp:revision>6</cp:revision>
  <dc:subject/>
  <dc:title>Слайд 1</dc:title>
</cp:coreProperties>
</file>