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67D3-FA66-4149-926A-72BFA4EA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E44A-1174-4BBA-A7CF-A6DC45CD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F51A-3490-46FA-B79F-28B07B90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2370-5BA3-4D3A-BCD1-C670CCC0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0A48-499E-4224-9538-4FA23440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6A82-CDE7-4B91-9747-6F8767FD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1583-A998-435D-9454-1ED05497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D936-028E-4309-AA96-55778363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ADC7-C30F-4800-BAA2-67C1E5E5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9DC5-4845-46F0-AFF5-3AF118E2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F788-69F2-4943-9010-5E86B6C2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F9C3-AF86-47F0-8408-D77F00F3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13C6-0A77-4435-9434-902190D5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2970-D5EE-4A1A-8E82-CDFF2F7C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EADC-9062-4354-8E8D-1B37FE25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0BB5-21C7-476F-95B7-EF0FE42D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FA46-3B8A-4AF8-A02C-618700B8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DE1-4DC5-4F87-BFB0-2551082B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FEDA-8CA2-4BD8-A17F-DBFEC1C9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F87D-410E-4249-8942-E1FCEE10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A29C-2E68-4A61-A1F1-E6CAD295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823D-22FE-43CF-9C48-BDB74FE6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2130-9E4E-4252-BB43-11D79280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70F1-5DBB-4250-BB59-BE2F6248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D25C-D3D9-4A8B-AD3D-3851E4B8E28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4D28-167C-45F1-91A7-849B4593D22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с зовут 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смайлова Валера* Бабеночка Карина* Китчуньчик Марина *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ши знаки зодиака 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алерия - 14 декабря 1994 год, стрелец*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рина – 7 июля 1994 год, рак*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рина – 20 июля 1994 год, рак*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1819440" cy="136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669 C 0.08333 0.02315 0.16823 -0.01898 0.21719 -0.00856 C 0.26615 0.00139 0.26094 0.11598 0.29271 0.12477 C 0.32413 0.13334 0.36076 0.08264 0.40712 0.0463 C 0.45382 0.01042 0.52969 -0.09977 0.57153 -0.09421 C 0.61354 -0.08842 0.63246 0.03935 0.66042 0.08125 C 0.68819 0.12477 0.72535 0.14792 0.73924 0.16273 E">
                                      <p:cBhvr>
                                        <p:cTn id="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м это нравится 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19280" y="3716280"/>
            <a:ext cx="2016000" cy="1752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2336760" cy="1752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11280" y="1628640"/>
            <a:ext cx="2305080" cy="1752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500720" y="4221000"/>
            <a:ext cx="3024000" cy="187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о мы не любим 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винское отношение людей друг к другу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10160" y="2254320"/>
            <a:ext cx="3771720" cy="2806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636768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ше настро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лнечн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достн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Цветуще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ветл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Ярк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 просто замечательн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10160" y="2254320"/>
            <a:ext cx="3771720" cy="2806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249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8:00:21Z</dcterms:created>
  <dc:creator>лысенко</dc:creator>
  <dc:description/>
  <dc:language>en-US</dc:language>
  <cp:lastModifiedBy>лысенко</cp:lastModifiedBy>
  <dcterms:modified xsi:type="dcterms:W3CDTF">2010-09-17T09:18:04Z</dcterms:modified>
  <cp:revision>6</cp:revision>
  <dc:subject/>
  <dc:title>Слайд 1</dc:title>
</cp:coreProperties>
</file>