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8.wmf" ContentType="image/x-wmf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2317-2935-4D74-B6CC-A8D063F3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E545-09D4-4C96-BEAB-E4D22ED1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0DD1-2108-44BB-9D7D-AB061A81B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FDE3-6CC3-4420-9CA8-866B39DC7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0C14-EE3D-4201-B83A-33DB30A4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DB02-B3E0-46C3-A56E-153D974E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68F1-0091-4D92-9741-1C0FA59F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378B-1041-4989-AAE8-2287561F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4444-A784-4959-B280-413E5D14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9DC0-BF29-4582-AB64-A2743230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D9B8-87D0-4AF1-BB6E-425C5ED9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F60B-4420-467F-82E3-F813C76B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EF26-9D47-4C5F-82F2-A1749506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28FE-0544-4217-8C7D-6AE695B6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D4E4-BD47-4AF7-813A-9DA91551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9CEA-C98D-4A54-B619-051D65A4A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B29B-4675-42A5-BFF4-867C37720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6801-747D-4A5C-82EF-F969DF4D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2FCA-3D5F-430D-91C7-30FA6C3B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A243-923A-467F-951E-2C743B60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3C64-214F-492D-B1AB-52B0F82E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7C5A-9475-4E6A-B567-9D516A95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9894-BEC9-44A3-A613-1C6AA4CB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9FC7-BBA5-43B3-8B03-838E21EA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E626-3D5C-4340-8399-EBDFB68B4554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68FC-A8FC-4847-A876-123691BB32BD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imes New Roman"/>
              </a:rPr>
              <a:t>Спириденко Анастасия</a:t>
            </a:r>
            <a:br>
              <a:rPr sz="5400"/>
            </a:br>
            <a:r>
              <a:rPr b="1" lang="ru-RU" sz="5400" spc="-1" strike="noStrike">
                <a:solidFill>
                  <a:srgbClr val="003366"/>
                </a:solidFill>
                <a:latin typeface="Times New Roman"/>
              </a:rPr>
              <a:t>Стрельникова Юлия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Настя – 27.09.1994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Юля – 27.05.1994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14680" y="172260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Настя – Весы       Юля – Близнецы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3581280" cy="28954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648320" y="2549520"/>
            <a:ext cx="4038480" cy="263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Настя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Я увлекаюсь театром!!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Театр это отдельный мир, где ты можешь прожить жизнь другого человека…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Люблю танцевать…когда танцую забываю обо всём на свете!!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3809880" cy="1820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57200" y="3581280"/>
            <a:ext cx="3429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Юля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Я люблю цветы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Цветы очень красивые и яркие…особенно розы и лилии!!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Еще я очень люблю мечтать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В своих мечтах  переношусь в другие реальности!!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651640" y="3941640"/>
            <a:ext cx="2031840" cy="2189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024520" y="1600200"/>
            <a:ext cx="32842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Мы любим и заботимся о братьях наших меньших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 rot="700800">
            <a:off x="609120" y="1828440"/>
            <a:ext cx="2533680" cy="1800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 rot="20681400">
            <a:off x="5756400" y="1854000"/>
            <a:ext cx="1861920" cy="1668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185840" y="3941640"/>
            <a:ext cx="2581200" cy="21891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4983120" y="3941640"/>
            <a:ext cx="3368880" cy="2189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Мы до сих пор верим в Деда Мороза)))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400800" cy="4191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Спасибо за внимание!!!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122480" y="1600200"/>
            <a:ext cx="6899040" cy="45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_2</cp:lastModifiedBy>
  <dcterms:modified xsi:type="dcterms:W3CDTF">2010-09-17T09:17:1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