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0CA-F51F-4220-B9EA-F1B96618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167-61DA-42BB-B7C1-3393C09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9E1-D985-4BAC-B3BE-152C4184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E76-5AA5-4019-89FB-AA9E2311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D259-5D8D-4604-91E0-838865B7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93C-9951-4BF9-A90C-2634C17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DDB-4F65-41A0-9226-9B3D21D0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40D2-9D9B-490D-B325-627A2FE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5F21-67FA-46A5-BA8C-50EC9D9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FF0-EB3E-4DD1-B19E-D4C1742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0DD-D03F-42F0-B733-80E6C27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CC7-6F97-4EC8-B239-D2476E85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B2E-CF73-454F-B0FE-AE4D9FA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8B2-8B18-458C-A09A-3707AA5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B12A-FBED-4E03-BB76-94501219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2B2-3989-4ECC-A91A-45BD4DC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44F4-3482-4757-BD13-D679BF11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E49-2D96-4A1E-82EB-E8A58BE0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26C-C375-4179-8634-CBBDD79D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1CF-8313-4001-8583-992804C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A7E-AD0C-4851-A08B-1DFBD13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0BE-514C-465D-AA10-4D461D7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10-0B35-47F2-BBF7-E82BF94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412-C00C-4B67-9566-D7B1DF20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D0C-7BE3-4999-92E0-D9B58602E14D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9EE-CF68-450F-B73F-B4180A19F9C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Спириденко Анастасия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Стрельникова Юлия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астя – 27.09.1994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Юля – 27.05.1994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4680" y="17226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астя – Весы       Юля – Близнецы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2549520"/>
            <a:ext cx="403848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Настя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Я увлекаюсь театром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Театр это отдельный мир, где ты можешь прожить жизнь другого человека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Люблю танцевать…когда танцую забываю обо всём на свете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3809880" cy="182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Юля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Я люблю цветы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Цветы очень красивые и яркие…особенно розы и лилии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Еще я очень люблю мечтать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В своих мечтах  переношусь в другие реальности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3941640"/>
            <a:ext cx="203184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Мы любим и заботимся о братьях наших меньших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700800">
            <a:off x="609120" y="182844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681400">
            <a:off x="5756400" y="1854000"/>
            <a:ext cx="1861920" cy="166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185840" y="3941640"/>
            <a:ext cx="258120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983120" y="3941640"/>
            <a:ext cx="336888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Мы до сих пор верим в Деда Мороза))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0080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Спасибо за внимание!!!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68990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0-09-17T09:17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