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3B99-D556-415B-AD96-9A4AF1351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2DD3-1316-403D-B034-4B0C027B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7674-2582-403A-9095-1FBC39953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7609-E858-4BE5-A127-DFD19F1A1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D14D-FDEA-46E5-991B-3E6B7A78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69B6-204E-4630-8820-EC6FDFCF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B391-467E-4F63-9713-6818693E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B218-D021-40C6-B22C-8E961F0F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A439-C83A-433E-8EC6-1DF404EF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1A36-5D2E-450B-9D22-1D9C2457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83B9-9C13-472C-BBF2-CCA6E1EA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5E06-E87A-4570-A61A-69E57DA7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BFA7-E916-46B5-B90E-646D529B7D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42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Заголовок 1"/>
          <p:cNvSpPr/>
          <p:nvPr/>
        </p:nvSpPr>
        <p:spPr>
          <a:xfrm>
            <a:off x="1727280" y="1700280"/>
            <a:ext cx="741672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БНЕ</a:t>
            </a:r>
            <a:br>
              <a:rPr sz="6600"/>
            </a:br>
            <a:r>
              <a:rPr b="0" lang="uk-UA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ОВНІШНЄ НЕЗАЛЕЖНЕ ОЦІНЮВАННЯ  </a:t>
            </a:r>
            <a:r>
              <a:rPr b="0" lang="en-US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014</a:t>
            </a:r>
            <a:r>
              <a:rPr b="0" lang="uk-UA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рок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БНЕ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НО-201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908000" y="1528560"/>
            <a:ext cx="723600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1500"/>
              </a:spcBef>
              <a:buClr>
                <a:srgbClr val="ff505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Мета: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ознайомлення з процедурою проведення З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500"/>
              </a:spcBef>
              <a:buClr>
                <a:srgbClr val="ff505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Результа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значається самостійно після виконання всіх завдань та отримання правильних відповід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 шкалою 100-200 балів може бути встановлений за умови використання учасником сервісу з визначення результатів пробного З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Пробне ЗНО проводиться на платній основ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49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50880" y="274680"/>
            <a:ext cx="72691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СОБЛИВОСТІ ПРОБНОГО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НО-201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47280" y="907560"/>
            <a:ext cx="74170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Реєстрація: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з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 по 30 листопада 20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р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Терміни проведення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000" spc="-1" strike="noStrike">
                <a:solidFill>
                  <a:srgbClr val="ff3300"/>
                </a:solidFill>
                <a:latin typeface="Arial"/>
              </a:rPr>
              <a:t>Для проходження пробного ЗНО обирається лише один предмет в кожен із днів проведення тестуванн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692360" y="1700280"/>
          <a:ext cx="7129440" cy="3666960"/>
        </p:xfrm>
        <a:graphic>
          <a:graphicData uri="http://schemas.openxmlformats.org/drawingml/2006/table">
            <a:tbl>
              <a:tblPr/>
              <a:tblGrid>
                <a:gridCol w="3546360"/>
                <a:gridCol w="3583080"/>
              </a:tblGrid>
              <a:tr h="51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березня 2014 р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березня 2014 р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раїнська мова і літера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імі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із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ійська м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світня історі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ноземна мов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глійська, німецька, французька, іспанська (за вибором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сторія Украї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іологі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і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ітова літера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5" name="Group 2"/>
          <p:cNvGrpSpPr/>
          <p:nvPr/>
        </p:nvGrpSpPr>
        <p:grpSpPr>
          <a:xfrm>
            <a:off x="0" y="189000"/>
            <a:ext cx="1692360" cy="6408720"/>
            <a:chOff x="0" y="189000"/>
            <a:chExt cx="1692360" cy="6408720"/>
          </a:xfrm>
        </p:grpSpPr>
        <p:pic>
          <p:nvPicPr>
            <p:cNvPr id="56" name="Picture 3" descr="logo"/>
            <p:cNvPicPr/>
            <p:nvPr/>
          </p:nvPicPr>
          <p:blipFill>
            <a:blip r:embed="rId1"/>
            <a:stretch/>
          </p:blipFill>
          <p:spPr>
            <a:xfrm>
              <a:off x="69480" y="476280"/>
              <a:ext cx="12308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Rectangle 2"/>
            <p:cNvSpPr/>
            <p:nvPr/>
          </p:nvSpPr>
          <p:spPr>
            <a:xfrm>
              <a:off x="0" y="1773360"/>
              <a:ext cx="169236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5"/>
            <p:cNvSpPr/>
            <p:nvPr/>
          </p:nvSpPr>
          <p:spPr>
            <a:xfrm>
              <a:off x="155088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60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Заголовок 1"/>
          <p:cNvSpPr/>
          <p:nvPr/>
        </p:nvSpPr>
        <p:spPr>
          <a:xfrm>
            <a:off x="1547640" y="549360"/>
            <a:ext cx="7740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9 КРОКІВ: РЕЄСТРАЦІЯ, УЧАСТЬ, 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835280" y="1197000"/>
            <a:ext cx="70563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На сайті ХРЦОЯО у розділі «Пробне ЗНО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ознайомитися з умовами проведенн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повнити всі поля та отримати персональний код (зберегти код!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йти на сторінку «Особистий кабінет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Роздрукувати заяву та квитанції для оплати кожного замовленого предмета окрем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Оформити заяву та надіслати поштою до ХРЦОЯ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4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Оплатити квитанції в будь-якому банку протягом 3 робочих дні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5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Перевірити оплату та надходження заяви на сторінці «Особистий кабінет» через 10 робочих днів із дня оплати квитанцій та відправки заяв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6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Роздрукувати зі сторінки «Особистий кабінет» запрошення, в якому буде зазначено місце та час проведення (з 3 березня 2014 року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7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Взяти участь у пробному ЗНО (маючи при собі документ, що посвідчує особу, та запрошення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8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Після участі у пробному ЗНО перенести відповіді з паперового бланка до електронного бланка, який розміщений на сторінці «Особистий кабінет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9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Ознайомитись із результатом на сторінці «Особистий кабінет»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(з 4 квітня 2014 року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2124000" y="115920"/>
            <a:ext cx="482760" cy="576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2968560" y="65160"/>
            <a:ext cx="504720" cy="649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3781440" y="115920"/>
            <a:ext cx="482760" cy="576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4435560" y="65160"/>
            <a:ext cx="504720" cy="649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"/>
          <p:cNvPicPr/>
          <p:nvPr/>
        </p:nvPicPr>
        <p:blipFill>
          <a:blip r:embed="rId6">
            <a:lum bright="12000"/>
          </a:blip>
          <a:stretch/>
        </p:blipFill>
        <p:spPr>
          <a:xfrm>
            <a:off x="5153040" y="96840"/>
            <a:ext cx="482760" cy="576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" descr=""/>
          <p:cNvPicPr/>
          <p:nvPr/>
        </p:nvPicPr>
        <p:blipFill>
          <a:blip r:embed="rId7">
            <a:lum bright="12000"/>
          </a:blip>
          <a:stretch/>
        </p:blipFill>
        <p:spPr>
          <a:xfrm>
            <a:off x="8388360" y="2852640"/>
            <a:ext cx="542880" cy="576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9" descr=""/>
          <p:cNvPicPr/>
          <p:nvPr/>
        </p:nvPicPr>
        <p:blipFill>
          <a:blip r:embed="rId8">
            <a:lum bright="12000"/>
          </a:blip>
          <a:stretch/>
        </p:blipFill>
        <p:spPr>
          <a:xfrm>
            <a:off x="8317080" y="4653000"/>
            <a:ext cx="612720" cy="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3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73" name="Picture 4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6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 Box 8"/>
          <p:cNvSpPr/>
          <p:nvPr/>
        </p:nvSpPr>
        <p:spPr>
          <a:xfrm>
            <a:off x="1908000" y="765000"/>
            <a:ext cx="723600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Телефон інформаційної служб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(057)705-07-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Електронна пошт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office@zno-kharkiv.org.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ай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форум: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www.zno-kharkiv.org.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Адре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майдан Свободи, 6, офіс 463, м. Харків, 610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08:13:26Z</dcterms:created>
  <dc:creator>N.Rusanova</dc:creator>
  <dc:description/>
  <dc:language>en-US</dc:language>
  <cp:lastModifiedBy>admin</cp:lastModifiedBy>
  <cp:lastPrinted>2013-10-14T08:56:11Z</cp:lastPrinted>
  <dcterms:modified xsi:type="dcterms:W3CDTF">2013-10-14T09:02:49Z</dcterms:modified>
  <cp:revision>74</cp:revision>
  <dc:subject/>
  <dc:title>Слайд 1</dc:title>
</cp:coreProperties>
</file>