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6B9-18D6-454A-82F8-411F5BAE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16B-85FD-4C59-9248-879A6521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DE7-3096-4AB0-954E-A28A5120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65D-E1DC-457A-852D-051BFF51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6DF-069C-429A-83F6-8DB6246E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5BF-2FCD-4273-B04B-BF9737E4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2AB-DD2E-413A-9FD3-011B3E37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39C-E681-4050-A6EB-4032FFFC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BA0-8EE9-41CF-B3A0-6427BCB0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3BB-4375-4D99-9D6E-8822228E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F40-6B84-426E-BE76-5544DB9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B46-5B99-4285-828F-2650887A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DDA6-67DD-4BB7-9A3A-8551EDC45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0880" y="274680"/>
            <a:ext cx="7269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ерміни проведе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6960"/>
        </p:xfrm>
        <a:graphic>
          <a:graphicData uri="http://schemas.openxmlformats.org/drawingml/2006/table">
            <a:tbl>
              <a:tblPr/>
              <a:tblGrid>
                <a:gridCol w="3546360"/>
                <a:gridCol w="3583080"/>
              </a:tblGrid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8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admin</cp:lastModifiedBy>
  <cp:lastPrinted>2013-10-14T08:56:11Z</cp:lastPrinted>
  <dcterms:modified xsi:type="dcterms:W3CDTF">2013-10-14T09:02:49Z</dcterms:modified>
  <cp:revision>74</cp:revision>
  <dc:subject/>
  <dc:title>Слайд 1</dc:title>
</cp:coreProperties>
</file>